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766A-07A3-4358-B33B-40F9D69A8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Encyclo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27C6-A74A-4517-AD15-AE00780BB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2547-1C0B-4A1E-9850-DEFF3DB2D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Encyclo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149F-ACEC-4583-939C-B8FB7938D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Encyclo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79A0-F247-4289-8486-D263118D8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Encyclo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C63B-5C7A-41C2-866D-EA02D9A6D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5D20-5146-40F0-9E51-A24476C15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6457-A910-4375-AE71-1EF49876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66DA-74F0-4B1A-8ABB-7F1B2E141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73AF-CDF0-419B-B22F-C3B0007E2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9E82-8BA2-4775-908B-5D0D5B38B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30CD-B654-4938-867A-36769575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10CD-504C-4A36-A803-F70326A9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9280-DF9D-4924-8234-1560A6EF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0739-B14F-47BB-AAD5-C28A4E1D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878E-96BE-4574-B1A8-2711B31A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C154-56B6-4B1D-9D5E-828C55BC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BD14-8590-4AED-8016-B79E28B0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79FE-1E49-4D57-8D4E-F950ABE9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279C-4DF7-4E73-9B99-2CD43103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7FE6-B347-46B8-8750-BB016C1F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6316-0803-488D-8A8A-9FEAAD1A4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A56B-76F8-4F81-A1A6-63E628FDF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D0C86-1F1A-4018-876E-813015AB1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9C983-5783-46ED-8591-4C9CC4C4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7BF5F-F446-4C93-9997-EC0EB59D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5D352-5016-4787-AF1B-DDD52A05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EC91A-F72D-471F-8D7C-681C1FF0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0B8C-2059-4CD2-AFA2-ADB5C9EC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D4869-C271-4C0F-B9E7-87E96DCF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1B8C2-147E-460B-9512-2E974762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63B6D-0E16-4414-B7A1-F6E6AF17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FE681-5AF7-4F93-A89B-11F1A6F4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C41E3-2DBC-4BA0-B077-EF3D5608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3F21C-839B-4CDA-95AC-EB776A5C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00B4B-2C6D-4FAA-901F-38C52DE3A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48FE8-0463-47DD-BBFE-9D233041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7F032-120F-43DF-8A1F-5FA48B2D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38C61-4D4E-4EA1-8517-87612DCF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7E3D-9CC3-492B-93DE-3F8B174A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1FA72-9ABF-409D-A39B-3C935D3D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757DF-E846-4B95-82FE-E2B4B74D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8235F-64F4-45CB-96CE-1FCD2026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2DB8B-92FB-48AD-862E-D52C0F27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3027F-66AB-4425-B0CB-A1EE1280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C40BA-8BEA-4A8B-B88C-38E4068A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9C8BE-A7B7-4EC7-B5AE-6651C212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2A183-0154-4626-9FC9-E18224D6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B4B99-49FD-4FE8-A96D-CC0AE801B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B071-BE99-4382-97E1-73D87104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CFA0-602C-4EF3-A504-A41598D7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65FA-F10D-4116-B914-35CF0CED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8009-9C70-474C-86FB-3F42BC14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CD3C-ED0D-42D1-BA18-344C81E5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9247-5009-4C0B-9816-6D2612CEC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6FA8-9A68-43F8-BA6F-586B05AACF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9361-C2A8-479D-9106-6800A421D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ket.org/encyclomedia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png"/><Relationship Id="rId3" Type="http://schemas.openxmlformats.org/officeDocument/2006/relationships/hyperlink" Target="http://www.lmooreketresources.wikispaces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2286000"/>
            <a:ext cx="5880240" cy="3789360"/>
          </a:xfrm>
          <a:prstGeom prst="rect">
            <a:avLst/>
          </a:prstGeom>
          <a:ln w="0">
            <a:noFill/>
          </a:ln>
        </p:spPr>
      </p:pic>
      <p:sp>
        <p:nvSpPr>
          <p:cNvPr id="172" name="TextBox 4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ump Start Project Based Learning With KET Instructional Resources!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73" name="Picture 14" descr=""/>
          <p:cNvPicPr/>
          <p:nvPr/>
        </p:nvPicPr>
        <p:blipFill>
          <a:blip r:embed="rId3"/>
          <a:stretch/>
        </p:blipFill>
        <p:spPr>
          <a:xfrm>
            <a:off x="6970680" y="1066680"/>
            <a:ext cx="1019160" cy="1246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6" descr=""/>
          <p:cNvPicPr/>
          <p:nvPr/>
        </p:nvPicPr>
        <p:blipFill>
          <a:blip r:embed="rId4"/>
          <a:stretch/>
        </p:blipFill>
        <p:spPr>
          <a:xfrm>
            <a:off x="1204920" y="1066680"/>
            <a:ext cx="1101600" cy="1243080"/>
          </a:xfrm>
          <a:prstGeom prst="rect">
            <a:avLst/>
          </a:prstGeom>
          <a:ln w="0">
            <a:noFill/>
          </a:ln>
        </p:spPr>
      </p:pic>
      <p:sp>
        <p:nvSpPr>
          <p:cNvPr id="175" name="Freeform 5"/>
          <p:cNvSpPr/>
          <p:nvPr/>
        </p:nvSpPr>
        <p:spPr>
          <a:xfrm>
            <a:off x="0" y="1139760"/>
            <a:ext cx="1380960" cy="2567160"/>
          </a:xfrm>
          <a:custGeom>
            <a:avLst/>
            <a:gdLst/>
            <a:ahLst/>
            <a:rect l="l" t="t" r="r" b="b"/>
            <a:pathLst>
              <a:path w="1380392" h="2567477">
                <a:moveTo>
                  <a:pt x="1380392" y="140677"/>
                </a:moveTo>
                <a:cubicBezTo>
                  <a:pt x="1365738" y="134815"/>
                  <a:pt x="1349195" y="132375"/>
                  <a:pt x="1336431" y="123092"/>
                </a:cubicBezTo>
                <a:cubicBezTo>
                  <a:pt x="1316319" y="108465"/>
                  <a:pt x="1304369" y="84132"/>
                  <a:pt x="1283677" y="70338"/>
                </a:cubicBezTo>
                <a:cubicBezTo>
                  <a:pt x="1246394" y="45484"/>
                  <a:pt x="1266751" y="57480"/>
                  <a:pt x="1222131" y="35169"/>
                </a:cubicBezTo>
                <a:cubicBezTo>
                  <a:pt x="1216269" y="26377"/>
                  <a:pt x="1214477" y="12403"/>
                  <a:pt x="1204546" y="8792"/>
                </a:cubicBezTo>
                <a:cubicBezTo>
                  <a:pt x="1179604" y="-278"/>
                  <a:pt x="1151954" y="0"/>
                  <a:pt x="1125415" y="0"/>
                </a:cubicBezTo>
                <a:cubicBezTo>
                  <a:pt x="1049159" y="0"/>
                  <a:pt x="973015" y="5861"/>
                  <a:pt x="896815" y="8792"/>
                </a:cubicBezTo>
                <a:cubicBezTo>
                  <a:pt x="843660" y="22080"/>
                  <a:pt x="873115" y="13761"/>
                  <a:pt x="808892" y="35169"/>
                </a:cubicBezTo>
                <a:cubicBezTo>
                  <a:pt x="808887" y="35171"/>
                  <a:pt x="756144" y="52750"/>
                  <a:pt x="756139" y="52754"/>
                </a:cubicBezTo>
                <a:cubicBezTo>
                  <a:pt x="747347" y="58615"/>
                  <a:pt x="737660" y="63318"/>
                  <a:pt x="729762" y="70338"/>
                </a:cubicBezTo>
                <a:cubicBezTo>
                  <a:pt x="711175" y="86860"/>
                  <a:pt x="697700" y="109298"/>
                  <a:pt x="677008" y="123092"/>
                </a:cubicBezTo>
                <a:cubicBezTo>
                  <a:pt x="659423" y="134815"/>
                  <a:pt x="639198" y="143317"/>
                  <a:pt x="624254" y="158261"/>
                </a:cubicBezTo>
                <a:cubicBezTo>
                  <a:pt x="600276" y="182239"/>
                  <a:pt x="592786" y="192216"/>
                  <a:pt x="562708" y="211015"/>
                </a:cubicBezTo>
                <a:cubicBezTo>
                  <a:pt x="551594" y="217962"/>
                  <a:pt x="539262" y="222738"/>
                  <a:pt x="527539" y="228600"/>
                </a:cubicBezTo>
                <a:cubicBezTo>
                  <a:pt x="508955" y="256475"/>
                  <a:pt x="487312" y="292676"/>
                  <a:pt x="457200" y="307731"/>
                </a:cubicBezTo>
                <a:lnTo>
                  <a:pt x="422031" y="325315"/>
                </a:lnTo>
                <a:cubicBezTo>
                  <a:pt x="416169" y="334107"/>
                  <a:pt x="411918" y="344220"/>
                  <a:pt x="404446" y="351692"/>
                </a:cubicBezTo>
                <a:cubicBezTo>
                  <a:pt x="369276" y="386862"/>
                  <a:pt x="383931" y="348761"/>
                  <a:pt x="360485" y="395654"/>
                </a:cubicBezTo>
                <a:cubicBezTo>
                  <a:pt x="356340" y="403944"/>
                  <a:pt x="355837" y="413741"/>
                  <a:pt x="351692" y="422031"/>
                </a:cubicBezTo>
                <a:cubicBezTo>
                  <a:pt x="346966" y="431482"/>
                  <a:pt x="338400" y="438751"/>
                  <a:pt x="334108" y="448407"/>
                </a:cubicBezTo>
                <a:cubicBezTo>
                  <a:pt x="311519" y="499232"/>
                  <a:pt x="317578" y="515588"/>
                  <a:pt x="298939" y="571500"/>
                </a:cubicBezTo>
                <a:lnTo>
                  <a:pt x="290146" y="597877"/>
                </a:lnTo>
                <a:cubicBezTo>
                  <a:pt x="287215" y="630115"/>
                  <a:pt x="285932" y="662546"/>
                  <a:pt x="281354" y="694592"/>
                </a:cubicBezTo>
                <a:cubicBezTo>
                  <a:pt x="280043" y="703767"/>
                  <a:pt x="274380" y="711881"/>
                  <a:pt x="272562" y="720969"/>
                </a:cubicBezTo>
                <a:cubicBezTo>
                  <a:pt x="268498" y="741290"/>
                  <a:pt x="266700" y="762000"/>
                  <a:pt x="263769" y="782515"/>
                </a:cubicBezTo>
                <a:cubicBezTo>
                  <a:pt x="266700" y="893884"/>
                  <a:pt x="267134" y="1005347"/>
                  <a:pt x="272562" y="1116623"/>
                </a:cubicBezTo>
                <a:cubicBezTo>
                  <a:pt x="273014" y="1125880"/>
                  <a:pt x="279536" y="1133912"/>
                  <a:pt x="281354" y="1143000"/>
                </a:cubicBezTo>
                <a:cubicBezTo>
                  <a:pt x="288346" y="1177962"/>
                  <a:pt x="291947" y="1213545"/>
                  <a:pt x="298939" y="1248507"/>
                </a:cubicBezTo>
                <a:cubicBezTo>
                  <a:pt x="301870" y="1263161"/>
                  <a:pt x="305274" y="1277728"/>
                  <a:pt x="307731" y="1292469"/>
                </a:cubicBezTo>
                <a:cubicBezTo>
                  <a:pt x="311138" y="1312911"/>
                  <a:pt x="312459" y="1333694"/>
                  <a:pt x="316523" y="1354015"/>
                </a:cubicBezTo>
                <a:cubicBezTo>
                  <a:pt x="320836" y="1375579"/>
                  <a:pt x="333366" y="1396494"/>
                  <a:pt x="342900" y="1415561"/>
                </a:cubicBezTo>
                <a:cubicBezTo>
                  <a:pt x="345831" y="1430215"/>
                  <a:pt x="347760" y="1445105"/>
                  <a:pt x="351692" y="1459523"/>
                </a:cubicBezTo>
                <a:cubicBezTo>
                  <a:pt x="356569" y="1477406"/>
                  <a:pt x="364782" y="1494295"/>
                  <a:pt x="369277" y="1512277"/>
                </a:cubicBezTo>
                <a:cubicBezTo>
                  <a:pt x="396762" y="1622220"/>
                  <a:pt x="361634" y="1485529"/>
                  <a:pt x="386862" y="1573823"/>
                </a:cubicBezTo>
                <a:cubicBezTo>
                  <a:pt x="413446" y="1666865"/>
                  <a:pt x="371436" y="1536338"/>
                  <a:pt x="413239" y="1661746"/>
                </a:cubicBezTo>
                <a:cubicBezTo>
                  <a:pt x="416170" y="1670538"/>
                  <a:pt x="420213" y="1679035"/>
                  <a:pt x="422031" y="1688123"/>
                </a:cubicBezTo>
                <a:lnTo>
                  <a:pt x="439615" y="1776046"/>
                </a:lnTo>
                <a:cubicBezTo>
                  <a:pt x="442546" y="1808284"/>
                  <a:pt x="444130" y="1840674"/>
                  <a:pt x="448408" y="1872761"/>
                </a:cubicBezTo>
                <a:cubicBezTo>
                  <a:pt x="450005" y="1884739"/>
                  <a:pt x="457200" y="1895847"/>
                  <a:pt x="457200" y="1907931"/>
                </a:cubicBezTo>
                <a:cubicBezTo>
                  <a:pt x="457200" y="2016409"/>
                  <a:pt x="453825" y="2124903"/>
                  <a:pt x="448408" y="2233246"/>
                </a:cubicBezTo>
                <a:cubicBezTo>
                  <a:pt x="447945" y="2242502"/>
                  <a:pt x="441863" y="2250632"/>
                  <a:pt x="439615" y="2259623"/>
                </a:cubicBezTo>
                <a:cubicBezTo>
                  <a:pt x="435990" y="2274121"/>
                  <a:pt x="437007" y="2289980"/>
                  <a:pt x="430823" y="2303584"/>
                </a:cubicBezTo>
                <a:cubicBezTo>
                  <a:pt x="422078" y="2322824"/>
                  <a:pt x="395654" y="2356338"/>
                  <a:pt x="395654" y="2356338"/>
                </a:cubicBezTo>
                <a:cubicBezTo>
                  <a:pt x="387506" y="2380782"/>
                  <a:pt x="387458" y="2388638"/>
                  <a:pt x="369277" y="2409092"/>
                </a:cubicBezTo>
                <a:cubicBezTo>
                  <a:pt x="352755" y="2427679"/>
                  <a:pt x="337215" y="2448051"/>
                  <a:pt x="316523" y="2461846"/>
                </a:cubicBezTo>
                <a:cubicBezTo>
                  <a:pt x="290032" y="2479507"/>
                  <a:pt x="286213" y="2483629"/>
                  <a:pt x="254977" y="2497015"/>
                </a:cubicBezTo>
                <a:cubicBezTo>
                  <a:pt x="232002" y="2506861"/>
                  <a:pt x="218209" y="2507167"/>
                  <a:pt x="193431" y="2514600"/>
                </a:cubicBezTo>
                <a:cubicBezTo>
                  <a:pt x="175677" y="2519926"/>
                  <a:pt x="158262" y="2526322"/>
                  <a:pt x="140677" y="2532184"/>
                </a:cubicBezTo>
                <a:cubicBezTo>
                  <a:pt x="131885" y="2535115"/>
                  <a:pt x="123291" y="2538729"/>
                  <a:pt x="114300" y="2540977"/>
                </a:cubicBezTo>
                <a:cubicBezTo>
                  <a:pt x="90854" y="2546838"/>
                  <a:pt x="66889" y="2550918"/>
                  <a:pt x="43962" y="2558561"/>
                </a:cubicBezTo>
                <a:cubicBezTo>
                  <a:pt x="12024" y="2569208"/>
                  <a:pt x="26853" y="2567354"/>
                  <a:pt x="0" y="2567354"/>
                </a:cubicBezTo>
              </a:path>
            </a:pathLst>
          </a:custGeom>
          <a:noFill/>
          <a:ln w="104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6" name="Freeform 22"/>
          <p:cNvSpPr/>
          <p:nvPr/>
        </p:nvSpPr>
        <p:spPr>
          <a:xfrm flipH="1">
            <a:off x="7848720" y="1166760"/>
            <a:ext cx="1295280" cy="2567160"/>
          </a:xfrm>
          <a:custGeom>
            <a:avLst/>
            <a:gdLst/>
            <a:ahLst/>
            <a:rect l="l" t="t" r="r" b="b"/>
            <a:pathLst>
              <a:path w="1380392" h="2567477">
                <a:moveTo>
                  <a:pt x="1380392" y="140677"/>
                </a:moveTo>
                <a:cubicBezTo>
                  <a:pt x="1365738" y="134815"/>
                  <a:pt x="1349195" y="132375"/>
                  <a:pt x="1336431" y="123092"/>
                </a:cubicBezTo>
                <a:cubicBezTo>
                  <a:pt x="1316319" y="108465"/>
                  <a:pt x="1304369" y="84132"/>
                  <a:pt x="1283677" y="70338"/>
                </a:cubicBezTo>
                <a:cubicBezTo>
                  <a:pt x="1246394" y="45484"/>
                  <a:pt x="1266751" y="57480"/>
                  <a:pt x="1222131" y="35169"/>
                </a:cubicBezTo>
                <a:cubicBezTo>
                  <a:pt x="1216269" y="26377"/>
                  <a:pt x="1214477" y="12403"/>
                  <a:pt x="1204546" y="8792"/>
                </a:cubicBezTo>
                <a:cubicBezTo>
                  <a:pt x="1179604" y="-278"/>
                  <a:pt x="1151954" y="0"/>
                  <a:pt x="1125415" y="0"/>
                </a:cubicBezTo>
                <a:cubicBezTo>
                  <a:pt x="1049159" y="0"/>
                  <a:pt x="973015" y="5861"/>
                  <a:pt x="896815" y="8792"/>
                </a:cubicBezTo>
                <a:cubicBezTo>
                  <a:pt x="843660" y="22080"/>
                  <a:pt x="873115" y="13761"/>
                  <a:pt x="808892" y="35169"/>
                </a:cubicBezTo>
                <a:cubicBezTo>
                  <a:pt x="808887" y="35171"/>
                  <a:pt x="756144" y="52750"/>
                  <a:pt x="756139" y="52754"/>
                </a:cubicBezTo>
                <a:cubicBezTo>
                  <a:pt x="747347" y="58615"/>
                  <a:pt x="737660" y="63318"/>
                  <a:pt x="729762" y="70338"/>
                </a:cubicBezTo>
                <a:cubicBezTo>
                  <a:pt x="711175" y="86860"/>
                  <a:pt x="697700" y="109298"/>
                  <a:pt x="677008" y="123092"/>
                </a:cubicBezTo>
                <a:cubicBezTo>
                  <a:pt x="659423" y="134815"/>
                  <a:pt x="639198" y="143317"/>
                  <a:pt x="624254" y="158261"/>
                </a:cubicBezTo>
                <a:cubicBezTo>
                  <a:pt x="600276" y="182239"/>
                  <a:pt x="592786" y="192216"/>
                  <a:pt x="562708" y="211015"/>
                </a:cubicBezTo>
                <a:cubicBezTo>
                  <a:pt x="551594" y="217962"/>
                  <a:pt x="539262" y="222738"/>
                  <a:pt x="527539" y="228600"/>
                </a:cubicBezTo>
                <a:cubicBezTo>
                  <a:pt x="508955" y="256475"/>
                  <a:pt x="487312" y="292676"/>
                  <a:pt x="457200" y="307731"/>
                </a:cubicBezTo>
                <a:lnTo>
                  <a:pt x="422031" y="325315"/>
                </a:lnTo>
                <a:cubicBezTo>
                  <a:pt x="416169" y="334107"/>
                  <a:pt x="411918" y="344220"/>
                  <a:pt x="404446" y="351692"/>
                </a:cubicBezTo>
                <a:cubicBezTo>
                  <a:pt x="369276" y="386862"/>
                  <a:pt x="383931" y="348761"/>
                  <a:pt x="360485" y="395654"/>
                </a:cubicBezTo>
                <a:cubicBezTo>
                  <a:pt x="356340" y="403944"/>
                  <a:pt x="355837" y="413741"/>
                  <a:pt x="351692" y="422031"/>
                </a:cubicBezTo>
                <a:cubicBezTo>
                  <a:pt x="346966" y="431482"/>
                  <a:pt x="338400" y="438751"/>
                  <a:pt x="334108" y="448407"/>
                </a:cubicBezTo>
                <a:cubicBezTo>
                  <a:pt x="311519" y="499232"/>
                  <a:pt x="317578" y="515588"/>
                  <a:pt x="298939" y="571500"/>
                </a:cubicBezTo>
                <a:lnTo>
                  <a:pt x="290146" y="597877"/>
                </a:lnTo>
                <a:cubicBezTo>
                  <a:pt x="287215" y="630115"/>
                  <a:pt x="285932" y="662546"/>
                  <a:pt x="281354" y="694592"/>
                </a:cubicBezTo>
                <a:cubicBezTo>
                  <a:pt x="280043" y="703767"/>
                  <a:pt x="274380" y="711881"/>
                  <a:pt x="272562" y="720969"/>
                </a:cubicBezTo>
                <a:cubicBezTo>
                  <a:pt x="268498" y="741290"/>
                  <a:pt x="266700" y="762000"/>
                  <a:pt x="263769" y="782515"/>
                </a:cubicBezTo>
                <a:cubicBezTo>
                  <a:pt x="266700" y="893884"/>
                  <a:pt x="267134" y="1005347"/>
                  <a:pt x="272562" y="1116623"/>
                </a:cubicBezTo>
                <a:cubicBezTo>
                  <a:pt x="273014" y="1125880"/>
                  <a:pt x="279536" y="1133912"/>
                  <a:pt x="281354" y="1143000"/>
                </a:cubicBezTo>
                <a:cubicBezTo>
                  <a:pt x="288346" y="1177962"/>
                  <a:pt x="291947" y="1213545"/>
                  <a:pt x="298939" y="1248507"/>
                </a:cubicBezTo>
                <a:cubicBezTo>
                  <a:pt x="301870" y="1263161"/>
                  <a:pt x="305274" y="1277728"/>
                  <a:pt x="307731" y="1292469"/>
                </a:cubicBezTo>
                <a:cubicBezTo>
                  <a:pt x="311138" y="1312911"/>
                  <a:pt x="312459" y="1333694"/>
                  <a:pt x="316523" y="1354015"/>
                </a:cubicBezTo>
                <a:cubicBezTo>
                  <a:pt x="320836" y="1375579"/>
                  <a:pt x="333366" y="1396494"/>
                  <a:pt x="342900" y="1415561"/>
                </a:cubicBezTo>
                <a:cubicBezTo>
                  <a:pt x="345831" y="1430215"/>
                  <a:pt x="347760" y="1445105"/>
                  <a:pt x="351692" y="1459523"/>
                </a:cubicBezTo>
                <a:cubicBezTo>
                  <a:pt x="356569" y="1477406"/>
                  <a:pt x="364782" y="1494295"/>
                  <a:pt x="369277" y="1512277"/>
                </a:cubicBezTo>
                <a:cubicBezTo>
                  <a:pt x="396762" y="1622220"/>
                  <a:pt x="361634" y="1485529"/>
                  <a:pt x="386862" y="1573823"/>
                </a:cubicBezTo>
                <a:cubicBezTo>
                  <a:pt x="413446" y="1666865"/>
                  <a:pt x="371436" y="1536338"/>
                  <a:pt x="413239" y="1661746"/>
                </a:cubicBezTo>
                <a:cubicBezTo>
                  <a:pt x="416170" y="1670538"/>
                  <a:pt x="420213" y="1679035"/>
                  <a:pt x="422031" y="1688123"/>
                </a:cubicBezTo>
                <a:lnTo>
                  <a:pt x="439615" y="1776046"/>
                </a:lnTo>
                <a:cubicBezTo>
                  <a:pt x="442546" y="1808284"/>
                  <a:pt x="444130" y="1840674"/>
                  <a:pt x="448408" y="1872761"/>
                </a:cubicBezTo>
                <a:cubicBezTo>
                  <a:pt x="450005" y="1884739"/>
                  <a:pt x="457200" y="1895847"/>
                  <a:pt x="457200" y="1907931"/>
                </a:cubicBezTo>
                <a:cubicBezTo>
                  <a:pt x="457200" y="2016409"/>
                  <a:pt x="453825" y="2124903"/>
                  <a:pt x="448408" y="2233246"/>
                </a:cubicBezTo>
                <a:cubicBezTo>
                  <a:pt x="447945" y="2242502"/>
                  <a:pt x="441863" y="2250632"/>
                  <a:pt x="439615" y="2259623"/>
                </a:cubicBezTo>
                <a:cubicBezTo>
                  <a:pt x="435990" y="2274121"/>
                  <a:pt x="437007" y="2289980"/>
                  <a:pt x="430823" y="2303584"/>
                </a:cubicBezTo>
                <a:cubicBezTo>
                  <a:pt x="422078" y="2322824"/>
                  <a:pt x="395654" y="2356338"/>
                  <a:pt x="395654" y="2356338"/>
                </a:cubicBezTo>
                <a:cubicBezTo>
                  <a:pt x="387506" y="2380782"/>
                  <a:pt x="387458" y="2388638"/>
                  <a:pt x="369277" y="2409092"/>
                </a:cubicBezTo>
                <a:cubicBezTo>
                  <a:pt x="352755" y="2427679"/>
                  <a:pt x="337215" y="2448051"/>
                  <a:pt x="316523" y="2461846"/>
                </a:cubicBezTo>
                <a:cubicBezTo>
                  <a:pt x="290032" y="2479507"/>
                  <a:pt x="286213" y="2483629"/>
                  <a:pt x="254977" y="2497015"/>
                </a:cubicBezTo>
                <a:cubicBezTo>
                  <a:pt x="232002" y="2506861"/>
                  <a:pt x="218209" y="2507167"/>
                  <a:pt x="193431" y="2514600"/>
                </a:cubicBezTo>
                <a:cubicBezTo>
                  <a:pt x="175677" y="2519926"/>
                  <a:pt x="158262" y="2526322"/>
                  <a:pt x="140677" y="2532184"/>
                </a:cubicBezTo>
                <a:cubicBezTo>
                  <a:pt x="131885" y="2535115"/>
                  <a:pt x="123291" y="2538729"/>
                  <a:pt x="114300" y="2540977"/>
                </a:cubicBezTo>
                <a:cubicBezTo>
                  <a:pt x="90854" y="2546838"/>
                  <a:pt x="66889" y="2550918"/>
                  <a:pt x="43962" y="2558561"/>
                </a:cubicBezTo>
                <a:cubicBezTo>
                  <a:pt x="12024" y="2569208"/>
                  <a:pt x="26853" y="2567354"/>
                  <a:pt x="0" y="2567354"/>
                </a:cubicBezTo>
              </a:path>
            </a:pathLst>
          </a:custGeom>
          <a:noFill/>
          <a:ln w="104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1600200" y="2286000"/>
            <a:ext cx="5880240" cy="378936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78" name="Picture 17" descr="C:\Users\larry.moore\AppData\Local\Microsoft\Windows\Temporary Internet Files\Content.IE5\UNADUB9E\MC900441735[1].png"/>
          <p:cNvPicPr/>
          <p:nvPr/>
        </p:nvPicPr>
        <p:blipFill>
          <a:blip r:embed="rId5"/>
          <a:stretch/>
        </p:blipFill>
        <p:spPr>
          <a:xfrm rot="960000">
            <a:off x="2308320" y="1161720"/>
            <a:ext cx="871560" cy="1295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8" descr="C:\Users\larry.moore\AppData\Local\Microsoft\Windows\Temporary Internet Files\Content.IE5\UNADUB9E\MC900441735[1].png"/>
          <p:cNvPicPr/>
          <p:nvPr/>
        </p:nvPicPr>
        <p:blipFill>
          <a:blip r:embed="rId6"/>
          <a:stretch/>
        </p:blipFill>
        <p:spPr>
          <a:xfrm>
            <a:off x="6095880" y="1006560"/>
            <a:ext cx="1017720" cy="12618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C:\Users\larry.moore\AppData\Local\Microsoft\Windows\Temporary Internet Files\Content.IE5\UNADUB9E\MC900441735[1].png"/>
          <p:cNvPicPr/>
          <p:nvPr/>
        </p:nvPicPr>
        <p:blipFill>
          <a:blip r:embed="rId7"/>
          <a:stretch/>
        </p:blipFill>
        <p:spPr>
          <a:xfrm rot="1395600">
            <a:off x="7300800" y="1309680"/>
            <a:ext cx="986040" cy="12621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C:\Users\larry.moore\AppData\Local\Microsoft\Windows\Temporary Internet Files\Content.IE5\UNADUB9E\MC900441735[1].png"/>
          <p:cNvPicPr/>
          <p:nvPr/>
        </p:nvPicPr>
        <p:blipFill>
          <a:blip r:embed="rId8"/>
          <a:stretch/>
        </p:blipFill>
        <p:spPr>
          <a:xfrm rot="15598800">
            <a:off x="921240" y="1265400"/>
            <a:ext cx="987480" cy="1262160"/>
          </a:xfrm>
          <a:prstGeom prst="rect">
            <a:avLst/>
          </a:prstGeom>
          <a:ln w="0">
            <a:noFill/>
          </a:ln>
        </p:spPr>
      </p:pic>
      <p:sp>
        <p:nvSpPr>
          <p:cNvPr id="182" name="Straight Connector 11"/>
          <p:cNvSpPr/>
          <p:nvPr/>
        </p:nvSpPr>
        <p:spPr>
          <a:xfrm>
            <a:off x="0" y="60753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ips for Maximizing Learning with PBS Learning Media Featur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380880" y="1828440"/>
            <a:ext cx="83822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n on Closed Captio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 by interactives to engage students in multiple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 by Lesson Plans or Self Paced Lessons  to find a variety of suggested multimedia with connected activit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folders to allowing sharing of resources with students and colleagu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1"/>
          <p:cNvSpPr/>
          <p:nvPr/>
        </p:nvSpPr>
        <p:spPr>
          <a:xfrm>
            <a:off x="152280" y="-7632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gency FB"/>
              </a:rPr>
              <a:t>Collaboration using PBS Learning Media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gency FB"/>
              </a:rPr>
              <a:t>My Favorites Folders 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-34920" y="1219320"/>
            <a:ext cx="9191520" cy="563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1036800" y="2914560"/>
            <a:ext cx="6846840" cy="790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"/>
          <p:cNvPicPr/>
          <p:nvPr/>
        </p:nvPicPr>
        <p:blipFill>
          <a:blip r:embed="rId2"/>
          <a:stretch/>
        </p:blipFill>
        <p:spPr>
          <a:xfrm>
            <a:off x="1025640" y="2076480"/>
            <a:ext cx="6887880" cy="704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3"/>
          <a:stretch/>
        </p:blipFill>
        <p:spPr>
          <a:xfrm>
            <a:off x="1001880" y="4819680"/>
            <a:ext cx="6885000" cy="7905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"/>
          <p:cNvPicPr/>
          <p:nvPr/>
        </p:nvPicPr>
        <p:blipFill>
          <a:blip r:embed="rId4"/>
          <a:stretch/>
        </p:blipFill>
        <p:spPr>
          <a:xfrm>
            <a:off x="1014480" y="3905280"/>
            <a:ext cx="6865920" cy="762120"/>
          </a:xfrm>
          <a:prstGeom prst="rect">
            <a:avLst/>
          </a:prstGeom>
          <a:ln w="0">
            <a:noFill/>
          </a:ln>
        </p:spPr>
      </p:pic>
      <p:sp>
        <p:nvSpPr>
          <p:cNvPr id="220" name="TextBox 1"/>
          <p:cNvSpPr/>
          <p:nvPr/>
        </p:nvSpPr>
        <p:spPr>
          <a:xfrm>
            <a:off x="939960" y="-76320"/>
            <a:ext cx="7075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gency FB"/>
              </a:rPr>
              <a:t>PBS Learning Media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gency FB"/>
              </a:rPr>
              <a:t>Professional Development 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21" name="Picture 10" descr=""/>
          <p:cNvPicPr/>
          <p:nvPr/>
        </p:nvPicPr>
        <p:blipFill>
          <a:blip r:embed="rId5"/>
          <a:stretch/>
        </p:blipFill>
        <p:spPr>
          <a:xfrm>
            <a:off x="1031760" y="5810400"/>
            <a:ext cx="6892920" cy="742680"/>
          </a:xfrm>
          <a:prstGeom prst="rect">
            <a:avLst/>
          </a:prstGeom>
          <a:ln w="0">
            <a:noFill/>
          </a:ln>
        </p:spPr>
      </p:pic>
      <p:grpSp>
        <p:nvGrpSpPr>
          <p:cNvPr id="222" name="Group 2"/>
          <p:cNvGrpSpPr/>
          <p:nvPr/>
        </p:nvGrpSpPr>
        <p:grpSpPr>
          <a:xfrm>
            <a:off x="1001880" y="1095480"/>
            <a:ext cx="6832440" cy="885600"/>
            <a:chOff x="1001880" y="1095480"/>
            <a:chExt cx="6832440" cy="885600"/>
          </a:xfrm>
        </p:grpSpPr>
        <p:pic>
          <p:nvPicPr>
            <p:cNvPr id="223" name="Picture 9" descr=""/>
            <p:cNvPicPr/>
            <p:nvPr/>
          </p:nvPicPr>
          <p:blipFill>
            <a:blip r:embed="rId6"/>
            <a:stretch/>
          </p:blipFill>
          <p:spPr>
            <a:xfrm>
              <a:off x="1001880" y="1095480"/>
              <a:ext cx="6832440" cy="88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Rectangle 1"/>
            <p:cNvSpPr/>
            <p:nvPr/>
          </p:nvSpPr>
          <p:spPr>
            <a:xfrm>
              <a:off x="2513160" y="1353960"/>
              <a:ext cx="4191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6699"/>
                  </a:solidFill>
                  <a:latin typeface="Arial Black"/>
                </a:rPr>
                <a:t>Promoting Positive Behavior in Schools </a:t>
              </a:r>
              <a:endParaRPr b="0" lang="en-US" sz="16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Discovery Education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0" y="838080"/>
            <a:ext cx="8842320" cy="5639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8991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iscovery Education Student Center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3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  <a:ea typeface="Calibri"/>
              </a:rPr>
              <a:t>Tips for Using Maximizing Learning with Discovery Features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951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 to Download Closed Captioning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cri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Assignment builder to orchestrate lessons with multiple forms of eng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shared content to coordinate multiple forms of representation and engagement among teac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d students to the Student Center for access to learning tools such as Board Build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4"/>
          <p:cNvSpPr/>
          <p:nvPr/>
        </p:nvSpPr>
        <p:spPr>
          <a:xfrm>
            <a:off x="76320" y="0"/>
            <a:ext cx="9067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gency FB"/>
              </a:rPr>
              <a:t>Lets take a Peek at how KET  Resources Can Catalyze Project Based Learning</a:t>
            </a:r>
            <a:endParaRPr b="0" lang="en-US" sz="4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4" name="Action Button: Custom 6">
            <a:hlinkClick r:id="rId1" action="ppaction://hlinksldjump"/>
          </p:cNvPr>
          <p:cNvSpPr/>
          <p:nvPr/>
        </p:nvSpPr>
        <p:spPr>
          <a:xfrm>
            <a:off x="6781680" y="2286000"/>
            <a:ext cx="2362320" cy="4572000"/>
          </a:xfrm>
          <a:custGeom>
            <a:avLst/>
            <a:gdLst>
              <a:gd name="textAreaLeft" fmla="*/ 153000 w 2362320"/>
              <a:gd name="textAreaRight" fmla="*/ 2209320 w 2362320"/>
              <a:gd name="textAreaTop" fmla="*/ 153000 h 4572000"/>
              <a:gd name="textAreaBottom" fmla="*/ 4419000 h 4572000"/>
            </a:gdLst>
            <a:ahLst/>
            <a:rect l="textAreaLeft" t="textAreaTop" r="textAreaRight" b="textAreaBottom"/>
            <a:pathLst>
              <a:path w="21600" h="41801">
                <a:moveTo>
                  <a:pt x="0" y="0"/>
                </a:moveTo>
                <a:lnTo>
                  <a:pt x="21600" y="0"/>
                </a:lnTo>
                <a:lnTo>
                  <a:pt x="21600" y="41801"/>
                </a:lnTo>
                <a:lnTo>
                  <a:pt x="0" y="41801"/>
                </a:lnTo>
                <a:close/>
              </a:path>
              <a:path fill="lightenLess" w="21600" h="418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1801">
                <a:moveTo>
                  <a:pt x="21600" y="0"/>
                </a:moveTo>
                <a:lnTo>
                  <a:pt x="21600" y="41801"/>
                </a:lnTo>
                <a:lnTo>
                  <a:pt x="20200" y="40401"/>
                </a:lnTo>
                <a:lnTo>
                  <a:pt x="20200" y="1400"/>
                </a:lnTo>
                <a:close/>
              </a:path>
              <a:path fill="darkenLess" w="21600" h="41801">
                <a:moveTo>
                  <a:pt x="21600" y="41801"/>
                </a:moveTo>
                <a:lnTo>
                  <a:pt x="0" y="41801"/>
                </a:lnTo>
                <a:lnTo>
                  <a:pt x="1400" y="40401"/>
                </a:lnTo>
                <a:lnTo>
                  <a:pt x="20200" y="40401"/>
                </a:lnTo>
                <a:close/>
              </a:path>
              <a:path fill="lighten" w="21600" h="41801">
                <a:moveTo>
                  <a:pt x="0" y="41801"/>
                </a:moveTo>
                <a:lnTo>
                  <a:pt x="0" y="0"/>
                </a:lnTo>
                <a:lnTo>
                  <a:pt x="1400" y="1400"/>
                </a:lnTo>
                <a:lnTo>
                  <a:pt x="1400" y="4040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85" name="Picture 15" descr=""/>
          <p:cNvPicPr/>
          <p:nvPr/>
        </p:nvPicPr>
        <p:blipFill>
          <a:blip r:embed="rId2"/>
          <a:stretch/>
        </p:blipFill>
        <p:spPr>
          <a:xfrm>
            <a:off x="6400800" y="708120"/>
            <a:ext cx="2743200" cy="6149880"/>
          </a:xfrm>
          <a:prstGeom prst="rect">
            <a:avLst/>
          </a:prstGeom>
          <a:ln w="0">
            <a:noFill/>
          </a:ln>
        </p:spPr>
      </p:pic>
      <p:sp>
        <p:nvSpPr>
          <p:cNvPr id="186" name="Action Button: Custom 2">
            <a:hlinkClick r:id="rId3"/>
          </p:cNvPr>
          <p:cNvSpPr/>
          <p:nvPr/>
        </p:nvSpPr>
        <p:spPr>
          <a:xfrm>
            <a:off x="76320" y="3124080"/>
            <a:ext cx="5181480" cy="762120"/>
          </a:xfrm>
          <a:custGeom>
            <a:avLst/>
            <a:gdLst>
              <a:gd name="textAreaLeft" fmla="*/ 49320 w 5181480"/>
              <a:gd name="textAreaRight" fmla="*/ 5132160 w 51814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46794" h="21600">
                <a:moveTo>
                  <a:pt x="0" y="0"/>
                </a:moveTo>
                <a:lnTo>
                  <a:pt x="146794" y="0"/>
                </a:lnTo>
                <a:lnTo>
                  <a:pt x="146794" y="21600"/>
                </a:lnTo>
                <a:lnTo>
                  <a:pt x="0" y="21600"/>
                </a:lnTo>
                <a:close/>
              </a:path>
              <a:path fill="lightenLess" w="146794" h="21600">
                <a:moveTo>
                  <a:pt x="0" y="0"/>
                </a:moveTo>
                <a:lnTo>
                  <a:pt x="146794" y="0"/>
                </a:lnTo>
                <a:lnTo>
                  <a:pt x="145394" y="1400"/>
                </a:lnTo>
                <a:lnTo>
                  <a:pt x="1400" y="1400"/>
                </a:lnTo>
                <a:close/>
              </a:path>
              <a:path fill="darken" w="146794" h="21600">
                <a:moveTo>
                  <a:pt x="146794" y="0"/>
                </a:moveTo>
                <a:lnTo>
                  <a:pt x="146794" y="21600"/>
                </a:lnTo>
                <a:lnTo>
                  <a:pt x="145394" y="20200"/>
                </a:lnTo>
                <a:lnTo>
                  <a:pt x="145394" y="1400"/>
                </a:lnTo>
                <a:close/>
              </a:path>
              <a:path fill="darkenLess" w="146794" h="21600">
                <a:moveTo>
                  <a:pt x="146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5394" y="20200"/>
                </a:lnTo>
                <a:close/>
              </a:path>
              <a:path fill="lighten" w="146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236160" y="1724040"/>
            <a:ext cx="5534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presenter today is: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rry Moore, KET Education Consultant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rth Central Region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moore@ket.org / 1-800-432-0951 Ext. 7264  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8" name="Rectangle 1"/>
          <p:cNvSpPr/>
          <p:nvPr/>
        </p:nvSpPr>
        <p:spPr>
          <a:xfrm>
            <a:off x="217440" y="3782880"/>
            <a:ext cx="61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mething to Po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28600" y="1722600"/>
            <a:ext cx="86868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formation that is not attended to, that does not engage students’ cognition, is in fact inaccessible. It is inaccessible both in the moment – relevant information goes unnoticed and unprocessed – and in the future: relevant information is unlikely to be remembere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CAST (2008). Universal Design for Learning Guidelines Version 1.0. Wakefield, MA: Auth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is Project/Challenge Based Lear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6320" y="960480"/>
            <a:ext cx="9067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oject Based Learning revolves around these concep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intended to teach significant cont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organized around an open-ended driving question or challe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s a need to know essential content and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s inquiry to learn and /or  create something ne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s critical thinking, problem solving, collaboration, and various forms of communication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entury skil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s some degree of student voice and choi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rporates feedback/reflection resulting in revi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olves a public audience/ perform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"/>
          <p:cNvSpPr/>
          <p:nvPr/>
        </p:nvSpPr>
        <p:spPr>
          <a:xfrm>
            <a:off x="-313560" y="6095880"/>
            <a:ext cx="844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Adapted from 2013 Buck Institute for Education website: http://www.bie.org/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4" name="Action Button: Custom 3"/>
          <p:cNvSpPr/>
          <p:nvPr/>
        </p:nvSpPr>
        <p:spPr>
          <a:xfrm>
            <a:off x="304920" y="6095880"/>
            <a:ext cx="7315200" cy="533520"/>
          </a:xfrm>
          <a:custGeom>
            <a:avLst/>
            <a:gdLst>
              <a:gd name="textAreaLeft" fmla="*/ 34560 w 7315200"/>
              <a:gd name="textAreaRight" fmla="*/ 7280640 w 73152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95977" h="21600">
                <a:moveTo>
                  <a:pt x="0" y="0"/>
                </a:moveTo>
                <a:lnTo>
                  <a:pt x="295977" y="0"/>
                </a:lnTo>
                <a:lnTo>
                  <a:pt x="295977" y="21600"/>
                </a:lnTo>
                <a:lnTo>
                  <a:pt x="0" y="21600"/>
                </a:lnTo>
                <a:close/>
              </a:path>
              <a:path fill="lightenLess" w="295977" h="21600">
                <a:moveTo>
                  <a:pt x="0" y="0"/>
                </a:moveTo>
                <a:lnTo>
                  <a:pt x="295977" y="0"/>
                </a:lnTo>
                <a:lnTo>
                  <a:pt x="294577" y="1400"/>
                </a:lnTo>
                <a:lnTo>
                  <a:pt x="1400" y="1400"/>
                </a:lnTo>
                <a:close/>
              </a:path>
              <a:path fill="darken" w="295977" h="21600">
                <a:moveTo>
                  <a:pt x="295977" y="0"/>
                </a:moveTo>
                <a:lnTo>
                  <a:pt x="295977" y="21600"/>
                </a:lnTo>
                <a:lnTo>
                  <a:pt x="294577" y="20200"/>
                </a:lnTo>
                <a:lnTo>
                  <a:pt x="294577" y="1400"/>
                </a:lnTo>
                <a:close/>
              </a:path>
              <a:path fill="darkenLess" w="295977" h="21600">
                <a:moveTo>
                  <a:pt x="29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577" y="20200"/>
                </a:lnTo>
                <a:close/>
              </a:path>
              <a:path fill="lighten" w="29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ow Can KET Resources Help Introduce Project/ Challenge Based Learning to Your Classro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essional Development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tures that enhance collaboration between teachers and colleagues and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 world examples/applications of project based philoso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rce of research content for teachers/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tures that allow for teacher feedback and public report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nt and Career conn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0" y="82224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198" name="Action Button: Custom 8"/>
          <p:cNvSpPr/>
          <p:nvPr/>
        </p:nvSpPr>
        <p:spPr>
          <a:xfrm>
            <a:off x="1600200" y="6095880"/>
            <a:ext cx="6553080" cy="685800"/>
          </a:xfrm>
          <a:custGeom>
            <a:avLst/>
            <a:gdLst>
              <a:gd name="textAreaLeft" fmla="*/ 44280 w 6553080"/>
              <a:gd name="textAreaRight" fmla="*/ 6508800 w 6553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06299" h="21600">
                <a:moveTo>
                  <a:pt x="0" y="0"/>
                </a:moveTo>
                <a:lnTo>
                  <a:pt x="206299" y="0"/>
                </a:lnTo>
                <a:lnTo>
                  <a:pt x="206299" y="21600"/>
                </a:lnTo>
                <a:lnTo>
                  <a:pt x="0" y="21600"/>
                </a:lnTo>
                <a:close/>
              </a:path>
              <a:path fill="lightenLess" w="206299" h="21600">
                <a:moveTo>
                  <a:pt x="0" y="0"/>
                </a:moveTo>
                <a:lnTo>
                  <a:pt x="206299" y="0"/>
                </a:lnTo>
                <a:lnTo>
                  <a:pt x="204899" y="1400"/>
                </a:lnTo>
                <a:lnTo>
                  <a:pt x="1400" y="1400"/>
                </a:lnTo>
                <a:close/>
              </a:path>
              <a:path fill="darken" w="206299" h="21600">
                <a:moveTo>
                  <a:pt x="206299" y="0"/>
                </a:moveTo>
                <a:lnTo>
                  <a:pt x="206299" y="21600"/>
                </a:lnTo>
                <a:lnTo>
                  <a:pt x="204899" y="20200"/>
                </a:lnTo>
                <a:lnTo>
                  <a:pt x="204899" y="1400"/>
                </a:lnTo>
                <a:close/>
              </a:path>
              <a:path fill="darkenLess" w="206299" h="21600">
                <a:moveTo>
                  <a:pt x="2062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899" y="20200"/>
                </a:lnTo>
                <a:close/>
              </a:path>
              <a:path fill="lighten" w="2062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600200" y="6095520"/>
            <a:ext cx="640080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KET.ORG/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11"/>
          <p:cNvSpPr/>
          <p:nvPr/>
        </p:nvSpPr>
        <p:spPr>
          <a:xfrm>
            <a:off x="2666880" y="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gency FB"/>
                <a:ea typeface="Arial"/>
              </a:rPr>
              <a:t>Let’s Explore!</a:t>
            </a:r>
            <a:endParaRPr b="0" lang="en-US" sz="40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ction Button: Custom 6"/>
          <p:cNvSpPr/>
          <p:nvPr/>
        </p:nvSpPr>
        <p:spPr>
          <a:xfrm>
            <a:off x="6781680" y="2286000"/>
            <a:ext cx="2362320" cy="4572000"/>
          </a:xfrm>
          <a:custGeom>
            <a:avLst/>
            <a:gdLst>
              <a:gd name="textAreaLeft" fmla="*/ 153000 w 2362320"/>
              <a:gd name="textAreaRight" fmla="*/ 2209320 w 2362320"/>
              <a:gd name="textAreaTop" fmla="*/ 153000 h 4572000"/>
              <a:gd name="textAreaBottom" fmla="*/ 4419000 h 4572000"/>
            </a:gdLst>
            <a:ahLst/>
            <a:rect l="textAreaLeft" t="textAreaTop" r="textAreaRight" b="textAreaBottom"/>
            <a:pathLst>
              <a:path w="21600" h="41801">
                <a:moveTo>
                  <a:pt x="0" y="0"/>
                </a:moveTo>
                <a:lnTo>
                  <a:pt x="21600" y="0"/>
                </a:lnTo>
                <a:lnTo>
                  <a:pt x="21600" y="41801"/>
                </a:lnTo>
                <a:lnTo>
                  <a:pt x="0" y="41801"/>
                </a:lnTo>
                <a:close/>
              </a:path>
              <a:path fill="lightenLess" w="21600" h="418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1801">
                <a:moveTo>
                  <a:pt x="21600" y="0"/>
                </a:moveTo>
                <a:lnTo>
                  <a:pt x="21600" y="41801"/>
                </a:lnTo>
                <a:lnTo>
                  <a:pt x="20200" y="40401"/>
                </a:lnTo>
                <a:lnTo>
                  <a:pt x="20200" y="1400"/>
                </a:lnTo>
                <a:close/>
              </a:path>
              <a:path fill="darkenLess" w="21600" h="41801">
                <a:moveTo>
                  <a:pt x="21600" y="41801"/>
                </a:moveTo>
                <a:lnTo>
                  <a:pt x="0" y="41801"/>
                </a:lnTo>
                <a:lnTo>
                  <a:pt x="1400" y="40401"/>
                </a:lnTo>
                <a:lnTo>
                  <a:pt x="20200" y="40401"/>
                </a:lnTo>
                <a:close/>
              </a:path>
              <a:path fill="lighten" w="21600" h="41801">
                <a:moveTo>
                  <a:pt x="0" y="41801"/>
                </a:moveTo>
                <a:lnTo>
                  <a:pt x="0" y="0"/>
                </a:lnTo>
                <a:lnTo>
                  <a:pt x="1400" y="1400"/>
                </a:lnTo>
                <a:lnTo>
                  <a:pt x="1400" y="4040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4" name="Action Button: Custom 7"/>
          <p:cNvSpPr/>
          <p:nvPr/>
        </p:nvSpPr>
        <p:spPr>
          <a:xfrm>
            <a:off x="0" y="2286000"/>
            <a:ext cx="3276720" cy="4572000"/>
          </a:xfrm>
          <a:custGeom>
            <a:avLst/>
            <a:gdLst>
              <a:gd name="textAreaLeft" fmla="*/ 212040 w 3276720"/>
              <a:gd name="textAreaRight" fmla="*/ 3064680 w 3276720"/>
              <a:gd name="textAreaTop" fmla="*/ 212040 h 4572000"/>
              <a:gd name="textAreaBottom" fmla="*/ 4359960 h 4572000"/>
            </a:gdLst>
            <a:ahLst/>
            <a:rect l="textAreaLeft" t="textAreaTop" r="textAreaRight" b="textAreaBottom"/>
            <a:pathLst>
              <a:path w="21600" h="30137">
                <a:moveTo>
                  <a:pt x="0" y="0"/>
                </a:moveTo>
                <a:lnTo>
                  <a:pt x="21600" y="0"/>
                </a:lnTo>
                <a:lnTo>
                  <a:pt x="21600" y="30137"/>
                </a:lnTo>
                <a:lnTo>
                  <a:pt x="0" y="30137"/>
                </a:lnTo>
                <a:close/>
              </a:path>
              <a:path fill="lightenLess" w="21600" h="30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37">
                <a:moveTo>
                  <a:pt x="21600" y="0"/>
                </a:moveTo>
                <a:lnTo>
                  <a:pt x="21600" y="30137"/>
                </a:lnTo>
                <a:lnTo>
                  <a:pt x="20200" y="28738"/>
                </a:lnTo>
                <a:lnTo>
                  <a:pt x="20200" y="1400"/>
                </a:lnTo>
                <a:close/>
              </a:path>
              <a:path fill="darkenLess" w="21600" h="30137">
                <a:moveTo>
                  <a:pt x="21600" y="30137"/>
                </a:moveTo>
                <a:lnTo>
                  <a:pt x="0" y="30137"/>
                </a:lnTo>
                <a:lnTo>
                  <a:pt x="1400" y="28738"/>
                </a:lnTo>
                <a:lnTo>
                  <a:pt x="20200" y="28738"/>
                </a:lnTo>
                <a:close/>
              </a:path>
              <a:path fill="lighten" w="21600" h="30137">
                <a:moveTo>
                  <a:pt x="0" y="30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3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05" name="Picture 10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206" name="TextBox 3"/>
          <p:cNvSpPr/>
          <p:nvPr/>
        </p:nvSpPr>
        <p:spPr>
          <a:xfrm>
            <a:off x="76320" y="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gency FB"/>
              </a:rPr>
              <a:t>The New KET EncycloMedia</a:t>
            </a:r>
            <a:endParaRPr b="0" lang="en-US" sz="40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6" descr=""/>
          <p:cNvPicPr/>
          <p:nvPr/>
        </p:nvPicPr>
        <p:blipFill>
          <a:blip r:embed="rId1"/>
          <a:stretch/>
        </p:blipFill>
        <p:spPr>
          <a:xfrm>
            <a:off x="0" y="674640"/>
            <a:ext cx="9177480" cy="4686480"/>
          </a:xfrm>
          <a:prstGeom prst="rect">
            <a:avLst/>
          </a:prstGeom>
          <a:ln w="0">
            <a:noFill/>
          </a:ln>
        </p:spPr>
      </p:pic>
      <p:sp>
        <p:nvSpPr>
          <p:cNvPr id="208" name="TextBox 1"/>
          <p:cNvSpPr/>
          <p:nvPr/>
        </p:nvSpPr>
        <p:spPr>
          <a:xfrm>
            <a:off x="152280" y="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gency FB"/>
              </a:rPr>
              <a:t>Teacher’s Domain Evolves into PBS Learning Media 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9" name="TextBox 2"/>
          <p:cNvSpPr/>
          <p:nvPr/>
        </p:nvSpPr>
        <p:spPr>
          <a:xfrm>
            <a:off x="-17640" y="5029200"/>
            <a:ext cx="9161640" cy="2409120"/>
          </a:xfrm>
          <a:prstGeom prst="rect">
            <a:avLst/>
          </a:prstGeom>
          <a:solidFill>
            <a:srgbClr val="499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BS Learning combines the resources from Teacher’s Domain with new KET and PBS content and then adds an improved search engine and overall functionality</a:t>
            </a:r>
            <a:br>
              <a:rPr sz="1800"/>
            </a:b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Baskerville Old Face"/>
            </a:endParaRPr>
          </a:p>
          <a:p>
            <a:pPr marL="285840" indent="-28584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,000 resources from KET and PBS affiliates with 200 -500 resources being added each mont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 marL="285840" indent="-28584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 includes video, images, interactives, lesson plans, and self paced lessons and professional developmen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ransition advTm="1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1"/>
          <p:cNvSpPr/>
          <p:nvPr/>
        </p:nvSpPr>
        <p:spPr>
          <a:xfrm>
            <a:off x="152280" y="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gency FB"/>
              </a:rPr>
              <a:t>A Great Example of Student Engagement: 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gency FB"/>
              </a:rPr>
              <a:t>“</a:t>
            </a:r>
            <a:r>
              <a:rPr b="1" lang="en-US" sz="3600" spc="-1" strike="noStrike">
                <a:solidFill>
                  <a:srgbClr val="ffff00"/>
                </a:solidFill>
                <a:latin typeface="Agency FB"/>
              </a:rPr>
              <a:t>Inspiring Middle School Literacy”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4397400"/>
          </a:xfrm>
          <a:prstGeom prst="rect">
            <a:avLst/>
          </a:prstGeom>
          <a:ln w="0">
            <a:noFill/>
          </a:ln>
        </p:spPr>
      </p:pic>
    </p:spTree>
  </p:cSld>
  <p:transition advTm="1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7:38:06Z</dcterms:created>
  <dc:creator>Missi Baker</dc:creator>
  <dc:description/>
  <dc:language>en-US</dc:language>
  <cp:lastModifiedBy>Larry Moore</cp:lastModifiedBy>
  <dcterms:modified xsi:type="dcterms:W3CDTF">2013-08-08T13:52:17Z</dcterms:modified>
  <cp:revision>726</cp:revision>
  <dc:subject/>
  <dc:title>Slide 1</dc:title>
</cp:coreProperties>
</file>